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37C-17F1-4270-AD80-1AF011FD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0AA0-99A8-4F0D-98F4-05AF2057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1CA-D203-42C4-8ED6-586F42B0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A66-3F17-4478-A5FF-8CDA0089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0E2D-33DC-4312-8625-9D9164D7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9277-B56C-443F-9287-A2ACC9F6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8D5-B527-423D-A27E-3950CA3A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5F64-7D1C-4E13-A8CE-B2390DF0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0AC-EA7B-46DF-AA6D-4E5D172A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175-7C61-467F-96D9-9CEE9FDF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4996-65CA-4793-B9C9-A5051405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445-16A0-475F-829D-47416AEC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2914-E719-4113-A206-D43C79AE7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talentoconsultancy@gmail.com" TargetMode="External"/><Relationship Id="rId2" Type="http://schemas.openxmlformats.org/officeDocument/2006/relationships/hyperlink" Target="mailto:hr@talento.com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362320"/>
            <a:ext cx="9144000" cy="18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ento: Corporate 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Rectangle 13"/>
          <p:cNvGrpSpPr/>
          <p:nvPr/>
        </p:nvGrpSpPr>
        <p:grpSpPr>
          <a:xfrm>
            <a:off x="-60480" y="4157640"/>
            <a:ext cx="9259920" cy="957240"/>
            <a:chOff x="-60480" y="4157640"/>
            <a:chExt cx="9259920" cy="957240"/>
          </a:xfrm>
        </p:grpSpPr>
        <p:pic>
          <p:nvPicPr>
            <p:cNvPr id="43" name="Rectangle 13" descr=""/>
            <p:cNvPicPr/>
            <p:nvPr/>
          </p:nvPicPr>
          <p:blipFill>
            <a:blip r:embed="rId1"/>
            <a:stretch/>
          </p:blipFill>
          <p:spPr>
            <a:xfrm>
              <a:off x="-60480" y="4157640"/>
              <a:ext cx="92599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0" y="4191120"/>
              <a:ext cx="914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040"/>
                  </a:solidFill>
                  <a:latin typeface="Impact"/>
                </a:rPr>
                <a:t>Right People for the Right Job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" name="Picture 2" descr="C:\Users\lalit lenka\Desktop\Talento Logo.jpg"/>
          <p:cNvPicPr/>
          <p:nvPr/>
        </p:nvPicPr>
        <p:blipFill>
          <a:blip r:embed="rId2"/>
          <a:stretch/>
        </p:blipFill>
        <p:spPr>
          <a:xfrm>
            <a:off x="0" y="236232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lalit lenka\Desktop\Talento Logo.jpg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371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0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Calibri"/>
              </a:rPr>
              <a:t>If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23760" y="1554120"/>
            <a:ext cx="3640320" cy="2036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0" y="1187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ou are looking to fill these seats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65520" y="1749600"/>
            <a:ext cx="4054680" cy="1993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4308480" y="38052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ou are looking for an HR Consulting Partner Whom you can  trust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495680" y="11872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ou are searching for the best resume from a pile 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4"/>
          <a:stretch/>
        </p:blipFill>
        <p:spPr>
          <a:xfrm>
            <a:off x="4492800" y="4443480"/>
            <a:ext cx="3639960" cy="234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5"/>
          <a:stretch/>
        </p:blipFill>
        <p:spPr>
          <a:xfrm>
            <a:off x="219240" y="4443480"/>
            <a:ext cx="3597120" cy="21952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0" y="38052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ou are looking for the best candidate from a crowd 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alento is a leading HR Consulting Firm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ur key guiding principle is identifying th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700" spc="-1" strike="noStrike">
                <a:solidFill>
                  <a:srgbClr val="800000"/>
                </a:solidFill>
                <a:latin typeface="Calibri"/>
              </a:rPr>
              <a:t>Right People for the Right Job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rporate Office in Delhi, In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ranch offices in  Chenna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rong team of 10 direct recruiters and over 15 independent consultants in pan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ustomer centric organizational structu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ep industry domain expertise of FMCG, Consumer durables, Building Materials, Banking, IT &amp; Teleco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ork with some of the well known players in the count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What is Talent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lalit lenka\Desktop\Talento Logo.jpg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lalit lenka\Desktop\Talento Logo.jpg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371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6640"/>
            <a:ext cx="716292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Calibri"/>
              </a:rPr>
              <a:t>Solid Foundation &amp; Successful Track Rec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3480" y="1176120"/>
            <a:ext cx="3209760" cy="6188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333399"/>
            </a:solidFill>
            <a:round/>
          </a:ln>
        </p:spPr>
        <p:txBody>
          <a:bodyPr anchor="t">
            <a:normAutofit/>
          </a:bodyPr>
          <a:p>
            <a:pPr marL="230040" indent="-230040">
              <a:lnSpc>
                <a:spcPct val="80000"/>
              </a:lnSpc>
              <a:spcBef>
                <a:spcPts val="300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4 + successful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80000"/>
              </a:lnSpc>
              <a:spcBef>
                <a:spcPts val="300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25+ satisfied cust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Text Box 6"/>
          <p:cNvGrpSpPr/>
          <p:nvPr/>
        </p:nvGrpSpPr>
        <p:grpSpPr>
          <a:xfrm>
            <a:off x="1347840" y="1725480"/>
            <a:ext cx="2511360" cy="554040"/>
            <a:chOff x="1347840" y="1725480"/>
            <a:chExt cx="2511360" cy="554040"/>
          </a:xfrm>
        </p:grpSpPr>
        <p:pic>
          <p:nvPicPr>
            <p:cNvPr id="63" name="Text Box 6" descr=""/>
            <p:cNvPicPr/>
            <p:nvPr/>
          </p:nvPicPr>
          <p:blipFill>
            <a:blip r:embed="rId2"/>
            <a:stretch/>
          </p:blipFill>
          <p:spPr>
            <a:xfrm>
              <a:off x="1347840" y="1725480"/>
              <a:ext cx="2511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486080" y="1841400"/>
              <a:ext cx="224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40000"/>
                  </a:solidFill>
                  <a:latin typeface="Verdana"/>
                </a:rPr>
                <a:t>Strong Pedigre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" name="Picture 2" descr="options"/>
          <p:cNvPicPr/>
          <p:nvPr/>
        </p:nvPicPr>
        <p:blipFill>
          <a:blip r:embed="rId3"/>
          <a:stretch/>
        </p:blipFill>
        <p:spPr>
          <a:xfrm>
            <a:off x="3200400" y="2279520"/>
            <a:ext cx="2590920" cy="2444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5"/>
          <p:cNvSpPr/>
          <p:nvPr/>
        </p:nvSpPr>
        <p:spPr>
          <a:xfrm>
            <a:off x="5638680" y="1371600"/>
            <a:ext cx="3200400" cy="16002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9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Industry Domains based execution mod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9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9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Pan-India Presence (NCR, Pune, Chenna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9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9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Expanding to Bangalore, Kolk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22"/>
          <p:cNvSpPr/>
          <p:nvPr/>
        </p:nvSpPr>
        <p:spPr>
          <a:xfrm>
            <a:off x="5867280" y="4368960"/>
            <a:ext cx="3124440" cy="198108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9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Executive Management from India’s leading Management Institutes with deep experience in PSU, IT, Services, FMC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9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9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Team comprises of experienced MBA HR profess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9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9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Includes a team of industry specific freelance headhun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04920" y="4419720"/>
            <a:ext cx="304776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9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sistently impressive Growth of over 80% year on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9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MS PGothic"/>
              </a:rPr>
              <a:t>Organically funded, and financially 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9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Text Box 17"/>
          <p:cNvGrpSpPr/>
          <p:nvPr/>
        </p:nvGrpSpPr>
        <p:grpSpPr>
          <a:xfrm>
            <a:off x="4889520" y="950760"/>
            <a:ext cx="3462480" cy="554040"/>
            <a:chOff x="4889520" y="950760"/>
            <a:chExt cx="3462480" cy="554040"/>
          </a:xfrm>
        </p:grpSpPr>
        <p:pic>
          <p:nvPicPr>
            <p:cNvPr id="70" name="Text Box 17" descr=""/>
            <p:cNvPicPr/>
            <p:nvPr/>
          </p:nvPicPr>
          <p:blipFill>
            <a:blip r:embed="rId4"/>
            <a:stretch/>
          </p:blipFill>
          <p:spPr>
            <a:xfrm>
              <a:off x="4889520" y="950760"/>
              <a:ext cx="34624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029200" y="106668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40000"/>
                  </a:solidFill>
                  <a:latin typeface="Verdana"/>
                </a:rPr>
                <a:t>Robust Delivery Capabilit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Text Box 24"/>
          <p:cNvGrpSpPr/>
          <p:nvPr/>
        </p:nvGrpSpPr>
        <p:grpSpPr>
          <a:xfrm>
            <a:off x="6151680" y="3919680"/>
            <a:ext cx="2431800" cy="560160"/>
            <a:chOff x="6151680" y="3919680"/>
            <a:chExt cx="2431800" cy="560160"/>
          </a:xfrm>
        </p:grpSpPr>
        <p:pic>
          <p:nvPicPr>
            <p:cNvPr id="73" name="Text Box 24" descr=""/>
            <p:cNvPicPr/>
            <p:nvPr/>
          </p:nvPicPr>
          <p:blipFill>
            <a:blip r:embed="rId5"/>
            <a:stretch/>
          </p:blipFill>
          <p:spPr>
            <a:xfrm>
              <a:off x="6151680" y="3919680"/>
              <a:ext cx="24318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286680" y="4038480"/>
              <a:ext cx="217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40000"/>
                  </a:solidFill>
                  <a:latin typeface="Verdana"/>
                </a:rPr>
                <a:t>Team@Talent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Text Box 10"/>
          <p:cNvGrpSpPr/>
          <p:nvPr/>
        </p:nvGrpSpPr>
        <p:grpSpPr>
          <a:xfrm>
            <a:off x="92160" y="3949560"/>
            <a:ext cx="2442960" cy="555840"/>
            <a:chOff x="92160" y="3949560"/>
            <a:chExt cx="2442960" cy="555840"/>
          </a:xfrm>
        </p:grpSpPr>
        <p:pic>
          <p:nvPicPr>
            <p:cNvPr id="76" name="Text Box 10" descr=""/>
            <p:cNvPicPr/>
            <p:nvPr/>
          </p:nvPicPr>
          <p:blipFill>
            <a:blip r:embed="rId6"/>
            <a:stretch/>
          </p:blipFill>
          <p:spPr>
            <a:xfrm>
              <a:off x="92160" y="3949560"/>
              <a:ext cx="244296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28600" y="4064040"/>
              <a:ext cx="218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40000"/>
                  </a:solidFill>
                  <a:latin typeface="Verdana"/>
                </a:rPr>
                <a:t>Impressive Growt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Oval 19"/>
          <p:cNvSpPr/>
          <p:nvPr/>
        </p:nvSpPr>
        <p:spPr>
          <a:xfrm>
            <a:off x="3238560" y="2971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20"/>
          <p:cNvSpPr/>
          <p:nvPr/>
        </p:nvSpPr>
        <p:spPr>
          <a:xfrm>
            <a:off x="3092400" y="3322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4486320" y="2324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18"/>
          <p:cNvSpPr/>
          <p:nvPr/>
        </p:nvSpPr>
        <p:spPr>
          <a:xfrm>
            <a:off x="5524560" y="3186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rc 30"/>
          <p:cNvSpPr/>
          <p:nvPr/>
        </p:nvSpPr>
        <p:spPr>
          <a:xfrm rot="16459800">
            <a:off x="2307240" y="3331080"/>
            <a:ext cx="642960" cy="838440"/>
          </a:xfrm>
          <a:prstGeom prst="pie">
            <a:avLst/>
          </a:prstGeom>
          <a:noFill/>
          <a:ln w="28440">
            <a:solidFill>
              <a:srgbClr val="ffcc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rc 7"/>
          <p:cNvSpPr/>
          <p:nvPr/>
        </p:nvSpPr>
        <p:spPr>
          <a:xfrm flipH="1" flipV="1">
            <a:off x="3200400" y="2208960"/>
            <a:ext cx="76320" cy="838440"/>
          </a:xfrm>
          <a:prstGeom prst="pie">
            <a:avLst/>
          </a:prstGeom>
          <a:noFill/>
          <a:ln w="28440">
            <a:solidFill>
              <a:srgbClr val="ffcc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rc 14"/>
          <p:cNvSpPr/>
          <p:nvPr/>
        </p:nvSpPr>
        <p:spPr>
          <a:xfrm flipH="1" flipV="1" rot="2926800">
            <a:off x="4821840" y="1265400"/>
            <a:ext cx="228600" cy="1118520"/>
          </a:xfrm>
          <a:prstGeom prst="pie">
            <a:avLst/>
          </a:prstGeom>
          <a:noFill/>
          <a:ln w="28440">
            <a:solidFill>
              <a:srgbClr val="ffcc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rc 21"/>
          <p:cNvSpPr/>
          <p:nvPr/>
        </p:nvSpPr>
        <p:spPr>
          <a:xfrm>
            <a:off x="5759280" y="3200400"/>
            <a:ext cx="642960" cy="838080"/>
          </a:xfrm>
          <a:prstGeom prst="pie">
            <a:avLst/>
          </a:prstGeom>
          <a:noFill/>
          <a:ln w="28440">
            <a:solidFill>
              <a:srgbClr val="ffcc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Industry Verticals we ser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lalit lenka\Desktop\Talento Logo.jpg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20520" y="17794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s verticals and industry specific HR consulting to improve the business performance of its cli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2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Talento delivers Verticals and industry specific HR consulting to improve the business performance of its clients.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performance of its cli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2" descr="fmcg"/>
          <p:cNvPicPr/>
          <p:nvPr/>
        </p:nvPicPr>
        <p:blipFill>
          <a:blip r:embed="rId2"/>
          <a:stretch/>
        </p:blipFill>
        <p:spPr>
          <a:xfrm>
            <a:off x="2419200" y="1859040"/>
            <a:ext cx="857520" cy="85716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7"/>
          <p:cNvGrpSpPr/>
          <p:nvPr/>
        </p:nvGrpSpPr>
        <p:grpSpPr>
          <a:xfrm>
            <a:off x="6008760" y="1690560"/>
            <a:ext cx="914400" cy="990360"/>
            <a:chOff x="6008760" y="1690560"/>
            <a:chExt cx="914400" cy="990360"/>
          </a:xfrm>
        </p:grpSpPr>
        <p:sp>
          <p:nvSpPr>
            <p:cNvPr id="92" name="Text Box 18"/>
            <p:cNvSpPr/>
            <p:nvPr/>
          </p:nvSpPr>
          <p:spPr>
            <a:xfrm>
              <a:off x="6008760" y="2436840"/>
              <a:ext cx="91440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Retai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" name="Picture 19" descr="shopping-cart"/>
            <p:cNvPicPr/>
            <p:nvPr/>
          </p:nvPicPr>
          <p:blipFill>
            <a:blip r:embed="rId3"/>
            <a:stretch/>
          </p:blipFill>
          <p:spPr>
            <a:xfrm>
              <a:off x="6123240" y="169056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Picture 20" descr="consumer2"/>
          <p:cNvPicPr/>
          <p:nvPr/>
        </p:nvPicPr>
        <p:blipFill>
          <a:blip r:embed="rId4"/>
          <a:stretch/>
        </p:blipFill>
        <p:spPr>
          <a:xfrm>
            <a:off x="6667560" y="3300480"/>
            <a:ext cx="990720" cy="77292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28"/>
          <p:cNvGrpSpPr/>
          <p:nvPr/>
        </p:nvGrpSpPr>
        <p:grpSpPr>
          <a:xfrm>
            <a:off x="6324480" y="5043600"/>
            <a:ext cx="914400" cy="1294560"/>
            <a:chOff x="6324480" y="5043600"/>
            <a:chExt cx="914400" cy="1294560"/>
          </a:xfrm>
        </p:grpSpPr>
        <p:pic>
          <p:nvPicPr>
            <p:cNvPr id="96" name="Picture 29" descr="money"/>
            <p:cNvPicPr/>
            <p:nvPr/>
          </p:nvPicPr>
          <p:blipFill>
            <a:blip r:embed="rId5"/>
            <a:stretch/>
          </p:blipFill>
          <p:spPr>
            <a:xfrm>
              <a:off x="6400800" y="5043600"/>
              <a:ext cx="762120" cy="68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30"/>
            <p:cNvSpPr/>
            <p:nvPr/>
          </p:nvSpPr>
          <p:spPr>
            <a:xfrm>
              <a:off x="6324480" y="5789520"/>
              <a:ext cx="91440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Banking &amp;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ervic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2490840" y="5081760"/>
            <a:ext cx="1181160" cy="1082160"/>
            <a:chOff x="2490840" y="5081760"/>
            <a:chExt cx="1181160" cy="1082160"/>
          </a:xfrm>
        </p:grpSpPr>
        <p:pic>
          <p:nvPicPr>
            <p:cNvPr id="99" name="Picture 12" descr="info_tech"/>
            <p:cNvPicPr/>
            <p:nvPr/>
          </p:nvPicPr>
          <p:blipFill>
            <a:blip r:embed="rId6"/>
            <a:stretch/>
          </p:blipFill>
          <p:spPr>
            <a:xfrm>
              <a:off x="2643120" y="508176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/>
            <p:cNvSpPr/>
            <p:nvPr/>
          </p:nvSpPr>
          <p:spPr>
            <a:xfrm>
              <a:off x="2490840" y="5767560"/>
              <a:ext cx="1181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Information Technolog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4"/>
          <p:cNvGrpSpPr/>
          <p:nvPr/>
        </p:nvGrpSpPr>
        <p:grpSpPr>
          <a:xfrm>
            <a:off x="1614600" y="3444840"/>
            <a:ext cx="1028520" cy="990360"/>
            <a:chOff x="1614600" y="3444840"/>
            <a:chExt cx="1028520" cy="990360"/>
          </a:xfrm>
        </p:grpSpPr>
        <p:pic>
          <p:nvPicPr>
            <p:cNvPr id="102" name="Picture 15" descr="best_road_big"/>
            <p:cNvPicPr/>
            <p:nvPr/>
          </p:nvPicPr>
          <p:blipFill>
            <a:blip r:embed="rId7"/>
            <a:stretch/>
          </p:blipFill>
          <p:spPr>
            <a:xfrm>
              <a:off x="1766520" y="3444840"/>
              <a:ext cx="7617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6"/>
            <p:cNvSpPr/>
            <p:nvPr/>
          </p:nvSpPr>
          <p:spPr>
            <a:xfrm>
              <a:off x="1614600" y="4191120"/>
              <a:ext cx="102852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Teleco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Line 10"/>
          <p:cNvSpPr/>
          <p:nvPr/>
        </p:nvSpPr>
        <p:spPr>
          <a:xfrm>
            <a:off x="3276720" y="2716200"/>
            <a:ext cx="3047760" cy="2327400"/>
          </a:xfrm>
          <a:prstGeom prst="line">
            <a:avLst/>
          </a:prstGeom>
          <a:ln w="9360">
            <a:solidFill>
              <a:srgbClr val="00008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3276720" y="2582640"/>
            <a:ext cx="2743200" cy="2498760"/>
          </a:xfrm>
          <a:prstGeom prst="line">
            <a:avLst/>
          </a:prstGeom>
          <a:ln w="9360">
            <a:solidFill>
              <a:srgbClr val="00008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2419200" y="3749760"/>
            <a:ext cx="4248360" cy="28440"/>
          </a:xfrm>
          <a:prstGeom prst="line">
            <a:avLst/>
          </a:prstGeom>
          <a:ln w="9360">
            <a:solidFill>
              <a:srgbClr val="00008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lalit lenka\Desktop\Talento Logo.jpg"/>
          <p:cNvPicPr/>
          <p:nvPr/>
        </p:nvPicPr>
        <p:blipFill>
          <a:blip r:embed="rId8"/>
          <a:stretch/>
        </p:blipFill>
        <p:spPr>
          <a:xfrm>
            <a:off x="3672000" y="3063960"/>
            <a:ext cx="198108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3"/>
          <p:cNvSpPr/>
          <p:nvPr/>
        </p:nvSpPr>
        <p:spPr>
          <a:xfrm>
            <a:off x="2457360" y="2716200"/>
            <a:ext cx="723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MC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362320"/>
            <a:ext cx="9144000" cy="18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ffc000"/>
                </a:solidFill>
                <a:latin typeface="Calibri"/>
              </a:rPr>
              <a:t>Thank you</a:t>
            </a:r>
            <a:br>
              <a:rPr sz="2500"/>
            </a:b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Contact us at :</a:t>
            </a:r>
            <a:br>
              <a:rPr sz="18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alentoconsultancy@gmail.com</a:t>
            </a:r>
            <a:br>
              <a:rPr sz="1800"/>
            </a:b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r@talento.com</a:t>
            </a: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+91-8826159869</a:t>
            </a: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www.talentoservices.com</a:t>
            </a:r>
            <a:br>
              <a:rPr sz="2500"/>
            </a:br>
            <a:br>
              <a:rPr sz="25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Rectangle 13"/>
          <p:cNvGrpSpPr/>
          <p:nvPr/>
        </p:nvGrpSpPr>
        <p:grpSpPr>
          <a:xfrm>
            <a:off x="-60480" y="4157640"/>
            <a:ext cx="9259920" cy="957240"/>
            <a:chOff x="-60480" y="4157640"/>
            <a:chExt cx="9259920" cy="957240"/>
          </a:xfrm>
        </p:grpSpPr>
        <p:pic>
          <p:nvPicPr>
            <p:cNvPr id="111" name="Rectangle 13" descr=""/>
            <p:cNvPicPr/>
            <p:nvPr/>
          </p:nvPicPr>
          <p:blipFill>
            <a:blip r:embed="rId3"/>
            <a:stretch/>
          </p:blipFill>
          <p:spPr>
            <a:xfrm>
              <a:off x="-60480" y="4157640"/>
              <a:ext cx="92599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0" y="4191120"/>
              <a:ext cx="914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040"/>
                  </a:solidFill>
                  <a:latin typeface="Impact"/>
                </a:rPr>
                <a:t>Right People for the Right Job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3" name="Picture 2" descr="C:\Users\lalit lenka\Desktop\Talento Logo.jpg"/>
          <p:cNvPicPr/>
          <p:nvPr/>
        </p:nvPicPr>
        <p:blipFill>
          <a:blip r:embed="rId4"/>
          <a:stretch/>
        </p:blipFill>
        <p:spPr>
          <a:xfrm>
            <a:off x="0" y="236232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lalit lenka</dc:creator>
  <dc:description/>
  <dc:language>en-US</dc:language>
  <cp:lastModifiedBy>Windows User</cp:lastModifiedBy>
  <dcterms:modified xsi:type="dcterms:W3CDTF">2019-03-20T23:02:26Z</dcterms:modified>
  <cp:revision>30</cp:revision>
  <dc:subject/>
  <dc:title>PowerPoint Presentation</dc:title>
</cp:coreProperties>
</file>